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3.jpeg" ContentType="image/jpeg"/>
  <Override PartName="/ppt/media/image12.gif" ContentType="image/gif"/>
  <Override PartName="/ppt/media/image3.jpeg" ContentType="image/jpeg"/>
  <Override PartName="/ppt/media/image10.gif" ContentType="image/gif"/>
  <Override PartName="/ppt/media/image9.png" ContentType="image/png"/>
  <Override PartName="/ppt/media/image8.png" ContentType="image/png"/>
  <Override PartName="/ppt/media/image14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5.jpeg" ContentType="image/jpeg"/>
  <Override PartName="/ppt/media/image11.gif" ContentType="image/gif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E786-2269-4FAA-968A-0CD6F0247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56F8-1B61-47BC-AD69-D7F11FBCA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6E1E-DAA2-46D6-8AE7-91F9BE9C1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1529-E497-416B-B7A0-1620040EB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72D4-6284-4F44-A20C-86478BA97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58A3-D5A2-4C4D-8481-40DA57854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3333-E831-4157-8BCC-C3BD00E89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718B-7782-427A-BDA0-6237F2D93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B8CD-9D22-41AC-8961-658713DAB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DE75-E6A5-4534-B6BB-8A4197FB2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301E-162E-421F-823F-0832C40D6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2D0C-1420-4D48-AB04-4C9EC1250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58E0-0E66-4CE8-B449-D88FFA3D9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12FC-E917-4F4A-8B35-C71080203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FBA4-06B2-4423-98AA-7E27ABB70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01BA-BF2A-4371-916B-0CF14E81D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4750-E7A8-4086-B8D7-57F78815E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5C56-F174-4397-B277-64F5A17AA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E81C-83D7-4487-A47C-2E5CDCC05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A439-FCAC-446F-8599-2B6484E77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8822-0397-4290-9C96-6DEF250A6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DAFE-7EF7-4CD4-87CA-F313F7BC9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42BB-5806-4EC5-9FC0-FF0B74FC2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3903-481C-4398-93F1-B5CCB6F86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B7B8-EB08-40E9-8248-C80F0FC1D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ECDB-2EA7-4464-8D8E-011C1EBB2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0CC0-C121-483F-A1CD-CD58FDACC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EAF0-B430-4569-91D3-0AA4A870D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5B0A-2D95-4BF1-BF3E-413A46F22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0971-275C-4198-A575-B300AE1C5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FCC8-B8EF-4B47-A9D4-8829553A3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C1E5-4BEF-4D56-8A14-9D39E69B3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CAAE-10B7-436F-917A-085BB871C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91D2-C6D3-43B4-88D5-CEC0B6FC1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F60C-B44C-4D91-9A3E-8035C4E74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0E6A-4030-444A-A712-14F955EB6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AD13-ECCB-42DF-B26B-CCA220628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A990-0993-4951-AE7C-6DC6A2B62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F77A-B34A-4D01-AC01-F53A57C06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F1A8-6E90-4F01-9AA8-7910194D8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D92B-FF11-42AC-96A8-E227BC5CF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33BF-632F-456D-BF1E-CA9DBBB8A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24C8-C167-4900-8D9F-B41A50969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1F45-60F6-4304-8C7F-91798C8D4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DD42-92EE-441D-A1C4-6D17A6C01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1243-5570-4EDB-BBD7-334DF2F70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5F97-73A9-4FA6-8340-498D61EC1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785D-FD1C-4C86-9ABE-6F7D189F8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E2F1-AFDD-45CC-835C-BB9C13695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2F7E-6958-4A43-AACC-BA549830A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E456-A5AF-4FB4-83E8-C83148DC5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F586-511B-42A3-849E-6823C1C60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FC15-FF90-4531-913A-6EEC09EDE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4C07-109D-4ACA-A161-18CDBF8FE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8561-8B32-4F65-A8B9-A72DABFBE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765C-8807-4E6F-A550-BF12A1C1E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6759-D0DA-4FA7-8B87-52D2B4324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0845-54B6-43FC-84DC-B1A414A14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8063-9623-444A-B5BF-0B88753F1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9DA7-655D-40D6-B9FA-95DB2A307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4807-E506-478D-9B36-829CE1BF4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6B11-3957-4FD4-AF58-66F820ADE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FA0A-4CF9-4700-80C3-439FDB29A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A3A4-ABEF-49DA-A1ED-7FE7236E6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8049-9D9A-44BD-B998-0CBC1A628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DFE5-3539-4495-948F-8007BD81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07B6-B7C2-475D-A7DD-32518B49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6506-24CE-447E-B987-7F8B1AA3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5D22-6220-4AC8-90C4-456447FA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F21E2-DD13-488A-8CCF-4E80B31F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F7340-B19A-47A8-AF55-875A3E6F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BF4AF-C665-4974-82C2-D22A5117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1EA1A-1213-45E7-9382-8FB84732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7B1CA-259C-459F-B6FE-9A907693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5602A-980B-481F-BA20-DD0C1907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F2C50-2F4B-427A-98AC-958EF3BD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8A79-8F06-49E4-A5D9-98549E17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634A5-C0CB-471F-B0F8-BE0D2FCF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6E55F-226B-4AA0-80D9-341C94DB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D9353-16D9-4200-877E-AFB7D162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6B980-1E1C-4199-A867-C82263963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DD3EE-082D-4F8E-85B2-2D43C7F00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C071-15F8-49DB-8324-4F3D8E21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F954-B01E-405A-A3AE-3B82CB1D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710C-B76C-4599-9687-A5779C91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D573-D12B-4A65-92FD-856FB612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17E8-0EBD-4316-9149-453A4AF3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4AB4-330B-4F95-B67E-8CAF3278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596A-3113-4B4C-A9AF-62F3DDCE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5393-6C1C-4511-A25F-3E23AA614302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12F4-E691-4197-9658-909C085804C9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Über lernfähige System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Steurenung und Regelu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71640" y="1844640"/>
            <a:ext cx="708660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teuerung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ich gebe vor, was du machen mus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egelung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Einfluss auf Grund des Vergleiches „soll” und „ist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1187280" y="2565360"/>
            <a:ext cx="1440000" cy="93492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ache da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3203640" y="2565360"/>
            <a:ext cx="1439640" cy="934920"/>
          </a:xfrm>
          <a:custGeom>
            <a:avLst/>
            <a:gdLst>
              <a:gd name="textAreaLeft" fmla="*/ 180000 w 1439640"/>
              <a:gd name="textAreaRight" fmla="*/ 1260000 w 143964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ache da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5076720" y="2565360"/>
            <a:ext cx="1440000" cy="93492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ache da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3492360" y="44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1835280" y="47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Line 14"/>
          <p:cNvSpPr/>
          <p:nvPr/>
        </p:nvSpPr>
        <p:spPr>
          <a:xfrm>
            <a:off x="5435640" y="47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6084720" y="479736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AutoShape 16"/>
          <p:cNvSpPr/>
          <p:nvPr/>
        </p:nvSpPr>
        <p:spPr>
          <a:xfrm>
            <a:off x="4356000" y="5445000"/>
            <a:ext cx="1152720" cy="576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Line 19"/>
          <p:cNvSpPr/>
          <p:nvPr/>
        </p:nvSpPr>
        <p:spPr>
          <a:xfrm flipH="1">
            <a:off x="5435280" y="573408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Line 20"/>
          <p:cNvSpPr/>
          <p:nvPr/>
        </p:nvSpPr>
        <p:spPr>
          <a:xfrm flipH="1">
            <a:off x="2700000" y="573408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Line 21"/>
          <p:cNvSpPr/>
          <p:nvPr/>
        </p:nvSpPr>
        <p:spPr>
          <a:xfrm flipV="1">
            <a:off x="2700360" y="486864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Oval 22"/>
          <p:cNvSpPr/>
          <p:nvPr/>
        </p:nvSpPr>
        <p:spPr>
          <a:xfrm>
            <a:off x="2627280" y="4724280"/>
            <a:ext cx="144360" cy="1447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Line 23"/>
          <p:cNvSpPr/>
          <p:nvPr/>
        </p:nvSpPr>
        <p:spPr>
          <a:xfrm>
            <a:off x="2411280" y="45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Line 24"/>
          <p:cNvSpPr/>
          <p:nvPr/>
        </p:nvSpPr>
        <p:spPr>
          <a:xfrm flipV="1">
            <a:off x="2484360" y="450828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Line 25"/>
          <p:cNvSpPr/>
          <p:nvPr/>
        </p:nvSpPr>
        <p:spPr>
          <a:xfrm flipH="1">
            <a:off x="2842920" y="49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Object 2"/>
          <p:cNvGraphicFramePr/>
          <p:nvPr/>
        </p:nvGraphicFramePr>
        <p:xfrm>
          <a:off x="684360" y="1557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Regelu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egelung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ausführliche Darstell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3635280" y="306864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 flipV="1">
            <a:off x="4356000" y="4437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5651640" y="335772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6804000" y="335772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2340000" y="400536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 flipH="1">
            <a:off x="6084720" y="4292640"/>
            <a:ext cx="7192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Oval 17"/>
          <p:cNvSpPr/>
          <p:nvPr/>
        </p:nvSpPr>
        <p:spPr>
          <a:xfrm>
            <a:off x="4284720" y="429264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Line 18"/>
          <p:cNvSpPr/>
          <p:nvPr/>
        </p:nvSpPr>
        <p:spPr>
          <a:xfrm>
            <a:off x="4643280" y="450864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Line 19"/>
          <p:cNvSpPr/>
          <p:nvPr/>
        </p:nvSpPr>
        <p:spPr>
          <a:xfrm flipV="1">
            <a:off x="4716360" y="443664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Line 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AutoShape 21"/>
          <p:cNvSpPr/>
          <p:nvPr/>
        </p:nvSpPr>
        <p:spPr>
          <a:xfrm>
            <a:off x="4932360" y="4005360"/>
            <a:ext cx="1152360" cy="5760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ess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Text Box 22"/>
          <p:cNvSpPr/>
          <p:nvPr/>
        </p:nvSpPr>
        <p:spPr>
          <a:xfrm>
            <a:off x="6012000" y="2924280"/>
            <a:ext cx="1873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geregelter We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Line 23"/>
          <p:cNvSpPr/>
          <p:nvPr/>
        </p:nvSpPr>
        <p:spPr>
          <a:xfrm>
            <a:off x="4572000" y="2565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 flipH="1">
            <a:off x="4427640" y="43657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4572000" y="2565360"/>
            <a:ext cx="10796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tör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4284720" y="4005360"/>
            <a:ext cx="86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Line 27"/>
          <p:cNvSpPr/>
          <p:nvPr/>
        </p:nvSpPr>
        <p:spPr>
          <a:xfrm flipH="1">
            <a:off x="3492000" y="436572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>
            <a:off x="1908000" y="3357720"/>
            <a:ext cx="172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Line 30"/>
          <p:cNvSpPr/>
          <p:nvPr/>
        </p:nvSpPr>
        <p:spPr>
          <a:xfrm>
            <a:off x="2627280" y="494172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Line 31"/>
          <p:cNvSpPr/>
          <p:nvPr/>
        </p:nvSpPr>
        <p:spPr>
          <a:xfrm>
            <a:off x="1908000" y="335772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Text Box 32"/>
          <p:cNvSpPr/>
          <p:nvPr/>
        </p:nvSpPr>
        <p:spPr>
          <a:xfrm>
            <a:off x="3492360" y="4581360"/>
            <a:ext cx="865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ol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Line 33"/>
          <p:cNvSpPr/>
          <p:nvPr/>
        </p:nvSpPr>
        <p:spPr>
          <a:xfrm flipV="1">
            <a:off x="2627280" y="4581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Line 34"/>
          <p:cNvSpPr/>
          <p:nvPr/>
        </p:nvSpPr>
        <p:spPr>
          <a:xfrm>
            <a:off x="1908000" y="42210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Text Box 35"/>
          <p:cNvSpPr/>
          <p:nvPr/>
        </p:nvSpPr>
        <p:spPr>
          <a:xfrm>
            <a:off x="3419640" y="400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ff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Modell bild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971640" y="184464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odell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Wiedergabe der Wirlkichkeit – für uns zweckmäßig vereinfach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AutoShape 10"/>
          <p:cNvSpPr/>
          <p:nvPr/>
        </p:nvSpPr>
        <p:spPr>
          <a:xfrm>
            <a:off x="4429080" y="3645000"/>
            <a:ext cx="115272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Line 12"/>
          <p:cNvSpPr/>
          <p:nvPr/>
        </p:nvSpPr>
        <p:spPr>
          <a:xfrm flipH="1">
            <a:off x="2773080" y="393372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Line 13"/>
          <p:cNvSpPr/>
          <p:nvPr/>
        </p:nvSpPr>
        <p:spPr>
          <a:xfrm flipV="1">
            <a:off x="2773440" y="306828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971640" y="479736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estmuster, Testreihen, Testsignal, Superposi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Regelung 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egelung A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konstanter Fluss aus einem Kess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AutoShape 9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Line 10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Line 11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Line 12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AutoShape 13"/>
          <p:cNvSpPr/>
          <p:nvPr/>
        </p:nvSpPr>
        <p:spPr>
          <a:xfrm>
            <a:off x="4429080" y="3645000"/>
            <a:ext cx="115272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Line 15"/>
          <p:cNvSpPr/>
          <p:nvPr/>
        </p:nvSpPr>
        <p:spPr>
          <a:xfrm flipH="1">
            <a:off x="2773080" y="393372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Line 16"/>
          <p:cNvSpPr/>
          <p:nvPr/>
        </p:nvSpPr>
        <p:spPr>
          <a:xfrm flipV="1">
            <a:off x="2773440" y="306828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Oval 17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Line 18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Line 19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Line 20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Text Box 21"/>
          <p:cNvSpPr/>
          <p:nvPr/>
        </p:nvSpPr>
        <p:spPr>
          <a:xfrm>
            <a:off x="971640" y="4797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trecke ist gegeben, sein Modell ist vollständig bekannt, das Modell ändern sich nich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Regelung B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zabályozás B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Eigenschaften der Strecke änderb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AutoShape 10"/>
          <p:cNvSpPr/>
          <p:nvPr/>
        </p:nvSpPr>
        <p:spPr>
          <a:xfrm>
            <a:off x="4429080" y="3645000"/>
            <a:ext cx="115272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Line 12"/>
          <p:cNvSpPr/>
          <p:nvPr/>
        </p:nvSpPr>
        <p:spPr>
          <a:xfrm flipH="1">
            <a:off x="2773080" y="393372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3" name="Line 13"/>
          <p:cNvSpPr/>
          <p:nvPr/>
        </p:nvSpPr>
        <p:spPr>
          <a:xfrm flipV="1">
            <a:off x="2773440" y="306828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Text Box 18"/>
          <p:cNvSpPr/>
          <p:nvPr/>
        </p:nvSpPr>
        <p:spPr>
          <a:xfrm>
            <a:off x="971640" y="4797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trcke ist gegeben, sein Modell ist vollständig bekannt, mindestens ein Parameter der Strecke ist änderb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Line 19"/>
          <p:cNvSpPr/>
          <p:nvPr/>
        </p:nvSpPr>
        <p:spPr>
          <a:xfrm flipV="1">
            <a:off x="4643280" y="3284280"/>
            <a:ext cx="0" cy="360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Object 2"/>
          <p:cNvGraphicFramePr/>
          <p:nvPr/>
        </p:nvGraphicFramePr>
        <p:xfrm>
          <a:off x="468360" y="155736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Regelung 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egelung adaptiv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Strecke-Eigenschaften ändern si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AutoShape 10"/>
          <p:cNvSpPr/>
          <p:nvPr/>
        </p:nvSpPr>
        <p:spPr>
          <a:xfrm>
            <a:off x="4427640" y="364500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Zustan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Line 12"/>
          <p:cNvSpPr/>
          <p:nvPr/>
        </p:nvSpPr>
        <p:spPr>
          <a:xfrm>
            <a:off x="5076720" y="4221000"/>
            <a:ext cx="0" cy="21600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Line 13"/>
          <p:cNvSpPr/>
          <p:nvPr/>
        </p:nvSpPr>
        <p:spPr>
          <a:xfrm flipV="1">
            <a:off x="2771640" y="3068280"/>
            <a:ext cx="1800" cy="1152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Text Box 18"/>
          <p:cNvSpPr/>
          <p:nvPr/>
        </p:nvSpPr>
        <p:spPr>
          <a:xfrm>
            <a:off x="971640" y="479736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odell der Strecke ist bekannt, die Eigenschaften der Strecke können sich ändern, die Änderung dieser Eigenschaften werden im Zustandsmodell erfas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Line 19"/>
          <p:cNvSpPr/>
          <p:nvPr/>
        </p:nvSpPr>
        <p:spPr>
          <a:xfrm>
            <a:off x="3276720" y="2997360"/>
            <a:ext cx="0" cy="100800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Line 20"/>
          <p:cNvSpPr/>
          <p:nvPr/>
        </p:nvSpPr>
        <p:spPr>
          <a:xfrm>
            <a:off x="3276720" y="4005360"/>
            <a:ext cx="115092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AutoShape 21"/>
          <p:cNvSpPr/>
          <p:nvPr/>
        </p:nvSpPr>
        <p:spPr>
          <a:xfrm>
            <a:off x="2268360" y="4149720"/>
            <a:ext cx="1152720" cy="576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Line 22"/>
          <p:cNvSpPr/>
          <p:nvPr/>
        </p:nvSpPr>
        <p:spPr>
          <a:xfrm flipH="1">
            <a:off x="3419280" y="4437000"/>
            <a:ext cx="1657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Regelung 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egelung D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nur die Strecke änderb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AutoShape 10"/>
          <p:cNvSpPr/>
          <p:nvPr/>
        </p:nvSpPr>
        <p:spPr>
          <a:xfrm>
            <a:off x="3924360" y="364500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Line 11"/>
          <p:cNvSpPr/>
          <p:nvPr/>
        </p:nvSpPr>
        <p:spPr>
          <a:xfrm flipH="1">
            <a:off x="5003640" y="3933720"/>
            <a:ext cx="115416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Line 13"/>
          <p:cNvSpPr/>
          <p:nvPr/>
        </p:nvSpPr>
        <p:spPr>
          <a:xfrm flipV="1">
            <a:off x="4643280" y="3284280"/>
            <a:ext cx="0" cy="43164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Text Box 18"/>
          <p:cNvSpPr/>
          <p:nvPr/>
        </p:nvSpPr>
        <p:spPr>
          <a:xfrm>
            <a:off x="971640" y="479736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an kann nur die Parameter der Strecke änder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Line 19"/>
          <p:cNvSpPr/>
          <p:nvPr/>
        </p:nvSpPr>
        <p:spPr>
          <a:xfrm>
            <a:off x="2050920" y="2997360"/>
            <a:ext cx="0" cy="93636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Line 21"/>
          <p:cNvSpPr/>
          <p:nvPr/>
        </p:nvSpPr>
        <p:spPr>
          <a:xfrm>
            <a:off x="2050920" y="3933720"/>
            <a:ext cx="180036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Text Box 22"/>
          <p:cNvSpPr/>
          <p:nvPr/>
        </p:nvSpPr>
        <p:spPr>
          <a:xfrm>
            <a:off x="971640" y="5300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Beispiel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städtische Wasserversorgung, Flugzeu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Fr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971640" y="184464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Warum wird in dem Luftverkehr bei Passagierflugzeugen kein Robotpilt eingesetzt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Object 2"/>
          <p:cNvGraphicFramePr/>
          <p:nvPr/>
        </p:nvGraphicFramePr>
        <p:xfrm>
          <a:off x="468360" y="1557360"/>
          <a:ext cx="7848720" cy="49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784872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Rückkopplungen – P 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Zwei Arten von Rückkopplungen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gative und positiv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971640" y="256536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gative: die innere Regelung in kontinuierlich arbeitenden Systemen ist immer negativ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29" name="Picture 19" descr="nvisz"/>
          <p:cNvPicPr/>
          <p:nvPr/>
        </p:nvPicPr>
        <p:blipFill>
          <a:blip r:embed="rId3"/>
          <a:stretch/>
        </p:blipFill>
        <p:spPr>
          <a:xfrm>
            <a:off x="4788000" y="2637000"/>
            <a:ext cx="3022560" cy="109692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20"/>
          <p:cNvSpPr/>
          <p:nvPr/>
        </p:nvSpPr>
        <p:spPr>
          <a:xfrm>
            <a:off x="971640" y="429264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ositive: auch die minimalste Änderung bringt eine übergroße Veränderung mit si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AutoShape 21"/>
          <p:cNvSpPr/>
          <p:nvPr/>
        </p:nvSpPr>
        <p:spPr>
          <a:xfrm>
            <a:off x="6012000" y="4365720"/>
            <a:ext cx="720720" cy="647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Text Box 27"/>
          <p:cNvSpPr/>
          <p:nvPr/>
        </p:nvSpPr>
        <p:spPr>
          <a:xfrm>
            <a:off x="1116000" y="5589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m Allgemeinen negative Assoziation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Rückkopplung - positiv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otwendigkeit der positiven Rückkoppl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1116000" y="2924280"/>
            <a:ext cx="7201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Ohne Regelung: Atombomb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it Regelung: Atomkraftwerk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Energiegewinn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1187280" y="3860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iologie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2340000" y="3860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lutgerinn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Text Box 10"/>
          <p:cNvSpPr/>
          <p:nvPr/>
        </p:nvSpPr>
        <p:spPr>
          <a:xfrm>
            <a:off x="4211640" y="3860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ntblätterung (Apoptos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42" name="Picture 11" descr="gomba"/>
          <p:cNvPicPr/>
          <p:nvPr/>
        </p:nvPicPr>
        <p:blipFill>
          <a:blip r:embed="rId3"/>
          <a:stretch/>
        </p:blipFill>
        <p:spPr>
          <a:xfrm>
            <a:off x="6156360" y="1844640"/>
            <a:ext cx="1944720" cy="1467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apeiler"/>
          <p:cNvPicPr/>
          <p:nvPr/>
        </p:nvPicPr>
        <p:blipFill>
          <a:blip r:embed="rId4"/>
          <a:stretch/>
        </p:blipFill>
        <p:spPr>
          <a:xfrm>
            <a:off x="6156360" y="3789360"/>
            <a:ext cx="1944720" cy="12970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animalcell"/>
          <p:cNvPicPr/>
          <p:nvPr/>
        </p:nvPicPr>
        <p:blipFill>
          <a:blip r:embed="rId5"/>
          <a:stretch/>
        </p:blipFill>
        <p:spPr>
          <a:xfrm>
            <a:off x="2700360" y="4437000"/>
            <a:ext cx="2401920" cy="20541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3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3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539640" y="3645000"/>
            <a:ext cx="7848720" cy="5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imes New Roman"/>
              </a:rPr>
              <a:t>Copyright (c) György Varga, 201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539640" y="1413000"/>
            <a:ext cx="7696440" cy="16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Über lernfähige IT System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900000" y="4653000"/>
            <a:ext cx="769644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e3e3ff"/>
                </a:solidFill>
                <a:latin typeface="Tahoma"/>
              </a:rPr>
              <a:t>www.xplanet.hu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Rückkopplung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sitive und negative zusammen: Instabilitä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1116000" y="450864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 einem Regelkreis – wo sowohl negative als auch positive Rückkopplungen vorhanden sind – ist die Wahrscheinlichkeit der Instabilität größer als Nul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1116000" y="29242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stabilität: die Möglichkeit, dass das System nicht mehr steuerbar wird, oder in einem solchen Zustand festsetzt, was für und ungünstig ist und lässt sich aus diesem Zustand nicht mehr herausbri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2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Rückkopplung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zitive und negative zusammen: Möglichkeit der Oszilla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1042920" y="249228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ispiel(~1890): Tierpopulation – Füchse und Has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58" name="Picture 10" descr="foxrabbit"/>
          <p:cNvPicPr/>
          <p:nvPr/>
        </p:nvPicPr>
        <p:blipFill>
          <a:blip r:embed="rId3"/>
          <a:stretch/>
        </p:blipFill>
        <p:spPr>
          <a:xfrm>
            <a:off x="2411280" y="3068640"/>
            <a:ext cx="3961080" cy="30211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Rückkopplung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61" name="Object 8"/>
          <p:cNvGraphicFramePr/>
          <p:nvPr/>
        </p:nvGraphicFramePr>
        <p:xfrm>
          <a:off x="324000" y="1341360"/>
          <a:ext cx="8208720" cy="444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41360"/>
                    <a:ext cx="820872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Phasenrau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971640" y="184464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hasenraum Technik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e Paramter des Systems werden in einem abstrakten Raum dargestellt, in dem ein einziger Punkt den Zusand des ganzen Systems beschreib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68" name="Picture 7" descr="lorenz"/>
          <p:cNvPicPr/>
          <p:nvPr/>
        </p:nvPicPr>
        <p:blipFill>
          <a:blip r:embed="rId3"/>
          <a:stretch/>
        </p:blipFill>
        <p:spPr>
          <a:xfrm>
            <a:off x="3059280" y="2997360"/>
            <a:ext cx="3314520" cy="28573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Object 2"/>
          <p:cNvGraphicFramePr/>
          <p:nvPr/>
        </p:nvGraphicFramePr>
        <p:xfrm>
          <a:off x="684360" y="1557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3. Analys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826920" y="198900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XVI-XVII. Jahhundert: Die Möglichkeit ein Verständnis über komplexe Systeme zu erwerben: nehmen wir es auseinander, untersuchen wir die Tei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900000" y="3284640"/>
            <a:ext cx="72010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In der Biologie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führt das nicht zum Ziel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s existieren „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emergente Eigenschaften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”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olche Eigenschaften, deren Erscheinung auf Grund der Eigenschaften der Teile nicht hinreichend erklärt werden kann. Atome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Molerüle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Zellen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Organ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900000" y="5445000"/>
            <a:ext cx="7201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ibniz: Die Fähigkeit des Lernens ist ein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„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igenschaft des zum Ganzen zusammengesetzten Systems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Eigenschaften der lernhähigen System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900000" y="2133720"/>
            <a:ext cx="746784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rnfähige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ese Systeme besitzen am Anfang mehrere Stabilitätspunkte im dem Phasenrau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urch das „Lernen” wird das System aus einem stabilen Punkt in einen anderen, eventuell stabilen Punkt gefüh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as Lernen setzt voraus: Selbstkenntniss und ein Modell über die Umgeb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bstkenntniss hier: womit und wie reagiert das System, welche Rückwirkung hat die Reaktion auf das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Fähigkeit der Selbstreperatu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as nicht mehr funktioniert, wird reaprie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um besser reagieren zu können: funktionierende Einheit effizienter zu gestalt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Eigenschaften der lernfähigen System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900000" y="2205000"/>
            <a:ext cx="74678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r Fall des sich sonnenden Einzellers (Tibor Gánt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Hier leben zu viele Zellen: weniger Essen und weniger Licht. Wo geht unser Freund hin?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1187280" y="580464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ine nichtdeterministische Entscheid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87" name="Picture 9" descr="untitled2"/>
          <p:cNvPicPr/>
          <p:nvPr/>
        </p:nvPicPr>
        <p:blipFill>
          <a:blip r:embed="rId3"/>
          <a:stretch/>
        </p:blipFill>
        <p:spPr>
          <a:xfrm>
            <a:off x="3059280" y="3789360"/>
            <a:ext cx="2485800" cy="149400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16"/>
          <p:cNvSpPr/>
          <p:nvPr/>
        </p:nvSpPr>
        <p:spPr>
          <a:xfrm flipV="1">
            <a:off x="1979640" y="4365720"/>
            <a:ext cx="431640" cy="792000"/>
          </a:xfrm>
          <a:prstGeom prst="upArrow">
            <a:avLst>
              <a:gd name="adj1" fmla="val 50000"/>
              <a:gd name="adj2" fmla="val 45872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weniger Ess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AutoShape 18"/>
          <p:cNvSpPr/>
          <p:nvPr/>
        </p:nvSpPr>
        <p:spPr>
          <a:xfrm flipV="1">
            <a:off x="6227640" y="4365720"/>
            <a:ext cx="432000" cy="792000"/>
          </a:xfrm>
          <a:prstGeom prst="upArrow">
            <a:avLst>
              <a:gd name="adj1" fmla="val 50000"/>
              <a:gd name="adj2" fmla="val 45833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weniger Lich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0" name="AutoShape 19"/>
          <p:cNvSpPr/>
          <p:nvPr/>
        </p:nvSpPr>
        <p:spPr>
          <a:xfrm flipH="1">
            <a:off x="1258920" y="3862440"/>
            <a:ext cx="1728720" cy="576360"/>
          </a:xfrm>
          <a:prstGeom prst="rightArrow">
            <a:avLst>
              <a:gd name="adj1" fmla="val 50000"/>
              <a:gd name="adj2" fmla="val 7498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ehr Lich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AutoShape 20"/>
          <p:cNvSpPr/>
          <p:nvPr/>
        </p:nvSpPr>
        <p:spPr>
          <a:xfrm>
            <a:off x="5724360" y="3862440"/>
            <a:ext cx="1727280" cy="576360"/>
          </a:xfrm>
          <a:prstGeom prst="rightArrow">
            <a:avLst>
              <a:gd name="adj1" fmla="val 50000"/>
              <a:gd name="adj2" fmla="val 74922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ehr Ess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900000" y="2205000"/>
            <a:ext cx="74678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rnfähige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bst-Verbesserung in der Biologie: zb. Der Bizep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1187280" y="4991400"/>
            <a:ext cx="6337440" cy="6998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Wie wachsen die Muskeln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6600"/>
                </a:solidFill>
                <a:latin typeface="Arial"/>
              </a:rPr>
              <a:t>(nur verbal=beide wollen: Zelle, Umgebung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</a:rPr>
              <a:t>4. Eigenschaften der lernfähigen Syst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900000" y="2205000"/>
            <a:ext cx="746784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 lernfähigen System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Fähigkeit der Selbs-Verbesserung: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„funktionierende Einheit effizienter zu machen” – kann ohen positive Rückkopplung nicht funktionier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1258920" y="4076280"/>
            <a:ext cx="6408720" cy="642600"/>
          </a:xfrm>
          <a:prstGeom prst="rect">
            <a:avLst/>
          </a:prstGeom>
          <a:solidFill>
            <a:srgbClr val="0000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In lenfähigen Systemen muss zwangsläufig positive Rückkopplung vorhanden sei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Text Box 8"/>
          <p:cNvSpPr/>
          <p:nvPr/>
        </p:nvSpPr>
        <p:spPr>
          <a:xfrm>
            <a:off x="1258920" y="4941000"/>
            <a:ext cx="6408720" cy="368280"/>
          </a:xfrm>
          <a:prstGeom prst="rect">
            <a:avLst/>
          </a:prstGeom>
          <a:solidFill>
            <a:srgbClr val="0000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Pozitive Rückkopplung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Instabilitä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1258920" y="5598720"/>
            <a:ext cx="633744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ie lenfähigen Systeme sind – ohne Ausnahme – instabile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</a:rPr>
              <a:t>4. Eigenschaften der lernfähigen Syst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Wann ist ein System lerfähig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900000" y="2133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Wann ist ein System lernfähig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1116000" y="4292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Im jeden lernfähigen System findet man positive Rückkopplung, deswegen sind sie instabil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1116000" y="350028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und in diesem Prozess auch nichtdeterministische Entscheidung gefällt wir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1116000" y="306864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Wenn es sich zu ändernden Verhältnisse gut anpassen kan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Text Box 9"/>
          <p:cNvSpPr/>
          <p:nvPr/>
        </p:nvSpPr>
        <p:spPr>
          <a:xfrm>
            <a:off x="1116000" y="5236560"/>
            <a:ext cx="6337440" cy="642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ernen: Selbs-Verbesserung über nichtdeterministischen Entscheidu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Im Vorau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684360" y="1844640"/>
            <a:ext cx="7993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obiltelefon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udio- und Bildaufnahm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icht eingeübt – Inhalt, Zusammenstellu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rage-Antwort: ein Satz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er die Antwort kennt, soll ½ Minute wart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Zusammenfassung</a:t>
            </a:r>
            <a:br>
              <a:rPr sz="4000"/>
            </a:b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Eigenschaften der lernhähigen System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900000" y="1989000"/>
            <a:ext cx="7467840" cy="46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rnfähige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ese Systeme besitzen mehrere Stabilitätspunkte im dem Phasenrau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urch das „Lernen” wird das System aus einem stabilen Punkt in einen anderen, eventuell stabilen Punkt gefüh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as Lernen setzt voraus: Selbstkenntniss und ein Modell über die Umgeb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bstkenntniss hier: womit und wie reagiert das System, welche Rückwirkung hat die Reaktion auf das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Fähigkeit der Selbstreperatu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as nicht mehr funktioniert, wird reaprie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um besser reagieren zu können: funktionierende Einheit effizienter zu mach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r Prozess des Lernens ist nichtdeterministisch und ist somit nicht reproduzierb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hemati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1 Nichlineare Gleichu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2 Frakta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5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hemati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efällt nicht jedem, aber notwendig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athematik der nicht linearen Gleichungen (Chaostheorie)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971640" y="314172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ichlineare Systeme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ese können mit linearen Gleichungen nicht beschrieben werden – Beispiel: turbulentes Verhalten der Gas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hemati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971640" y="18446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Herkömliche Sicht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ineare Gleichungen beschreiben das System  – kontinuierliche Funktion, Derivat existiert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971640" y="24922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ichtlineare Systeme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ese können mit liearen Gleichungen nicht beschrieben werd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1042920" y="3213000"/>
            <a:ext cx="7201080" cy="642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ann komplexes Systemverhalten nur mit Hilfe komplexer Funktionen beschieben werden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Text Box 9"/>
          <p:cNvSpPr/>
          <p:nvPr/>
        </p:nvSpPr>
        <p:spPr>
          <a:xfrm>
            <a:off x="1835280" y="4075920"/>
            <a:ext cx="5184720" cy="36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in: einfache deterministische Funk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Text Box 10"/>
          <p:cNvSpPr/>
          <p:nvPr/>
        </p:nvSpPr>
        <p:spPr>
          <a:xfrm>
            <a:off x="1547640" y="4515840"/>
            <a:ext cx="5761080" cy="1797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ine sehr geringfügige Änderung der Anfangsbedingungen kann eine große Menge verschiedene Antworten ge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as scheinbar chaotische Verhalten kann in bildhafte Strukturen geordnet werden, wobei sehr feine und schöne Bilder entsteh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0" dur="3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0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Text Box 6"/>
          <p:cNvSpPr/>
          <p:nvPr/>
        </p:nvSpPr>
        <p:spPr>
          <a:xfrm>
            <a:off x="1042920" y="1773360"/>
            <a:ext cx="70866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ückkopplung und Iteration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infache Iteration kann große Komplexität hervorruf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ispiel:   x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kx(1-x) , ahol  0 &lt; x &lt; 1  (Becker-Transformation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s ist nicht möglich vorauszusagen, welchen Wert x nach bestimmten (genügend großer Anzahl von) Schritten annimm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Text Box 9"/>
          <p:cNvSpPr/>
          <p:nvPr/>
        </p:nvSpPr>
        <p:spPr>
          <a:xfrm>
            <a:off x="1476360" y="486828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ich lineare Gleichungen: genaue Vorhersage des Verhaltens ist nicht mögli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1042920" y="1773360"/>
            <a:ext cx="7086600" cy="27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Edward N.Lorenz(1963)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infaches Gleichungssystem mit 3 Paramter für meteorologische Vorhersa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obachtung: äußerst empfindlich gegenüber Änderungen der Anfangsparameter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Vorhersage ist unmögli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chmetteling-Effekt: „Wenn ein Schmetterling heute über Brasilien einmal Flattert, kann sein, dass nach einem Monat ein Tornado über New York entsteht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1476360" y="4795200"/>
            <a:ext cx="2374920" cy="103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x/dt = R(y-x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y/dt = x(P-z) – 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z/dt = xy - B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2" name="Picture 7" descr="lorenz"/>
          <p:cNvPicPr/>
          <p:nvPr/>
        </p:nvPicPr>
        <p:blipFill>
          <a:blip r:embed="rId3"/>
          <a:stretch/>
        </p:blipFill>
        <p:spPr>
          <a:xfrm>
            <a:off x="4572000" y="4508640"/>
            <a:ext cx="1728720" cy="14904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hemati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971640" y="14842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obachtung: die Unmöglichkeit der Vorhersage, im welchen Punkt des Phasenraumes sich der Zustand des Systems (Attracktors) in einem vorgegebenen Zeipunkt befind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971640" y="5444280"/>
            <a:ext cx="7345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orhersage unmöglich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chaotisches System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Chaostheori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9" name="Picture 7" descr="lorenz"/>
          <p:cNvPicPr/>
          <p:nvPr/>
        </p:nvPicPr>
        <p:blipFill>
          <a:blip r:embed="rId3"/>
          <a:stretch/>
        </p:blipFill>
        <p:spPr>
          <a:xfrm>
            <a:off x="1258920" y="2421000"/>
            <a:ext cx="3314520" cy="285732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8"/>
          <p:cNvSpPr/>
          <p:nvPr/>
        </p:nvSpPr>
        <p:spPr>
          <a:xfrm>
            <a:off x="1116000" y="5876280"/>
            <a:ext cx="698508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haostheorie === Mathematik der nichlinearen Gleichu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61" name="Picture 9" descr="lorenz-3Dview"/>
          <p:cNvPicPr/>
          <p:nvPr/>
        </p:nvPicPr>
        <p:blipFill>
          <a:blip r:embed="rId4"/>
          <a:stretch/>
        </p:blipFill>
        <p:spPr>
          <a:xfrm>
            <a:off x="5076720" y="278136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2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Mathematik - Fraktalgeometri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Benoit Mandelbrot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Untersuchung von selbstähnlichen Figuren (Wolke: Ähnlich bis zur 7 Größenordnung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1547640" y="486828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raktale: sich selbst in in kleneren Form enthaltende Formen und Gestalt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8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Fraktale - Beispie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042920" y="1773360"/>
            <a:ext cx="70866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enger Teppich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itte des Quadrates – ein dritter von der Seite  – wird ausgeschnitt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ierpinki Dreieck</a:t>
            </a: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Dreieck mit Loch in der Mitt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73" name="Picture 6" descr="sierp-zoom"/>
          <p:cNvPicPr/>
          <p:nvPr/>
        </p:nvPicPr>
        <p:blipFill>
          <a:blip r:embed="rId3"/>
          <a:stretch/>
        </p:blipFill>
        <p:spPr>
          <a:xfrm>
            <a:off x="5867280" y="3645000"/>
            <a:ext cx="2033640" cy="20336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Aniteppich"/>
          <p:cNvPicPr/>
          <p:nvPr/>
        </p:nvPicPr>
        <p:blipFill>
          <a:blip r:embed="rId4"/>
          <a:stretch/>
        </p:blipFill>
        <p:spPr>
          <a:xfrm>
            <a:off x="1258920" y="3500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Meng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1042920" y="1773360"/>
            <a:ext cx="708660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aston Julia (1918)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ulia Menge Kc ist die Menge der komplexen Zahlen, bei denen die iterierte quadratische komplex Funktion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Qc(z) = z2 +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schränkt bleib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c := {c€C;   lim |Qnc(z)| &lt; 0-0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                                                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0-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Inhal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Text Box 2053"/>
          <p:cNvSpPr/>
          <p:nvPr/>
        </p:nvSpPr>
        <p:spPr>
          <a:xfrm>
            <a:off x="684360" y="1844640"/>
            <a:ext cx="799308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Über lernfähige Syste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T Architekturfrag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Beispiele (IT Architektur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o wir noch lernen können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(was machen wir falsch?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Zusammenfassu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Rectangle 207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M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82" name="Picture 4" descr="Julia_set"/>
          <p:cNvPicPr/>
          <p:nvPr/>
        </p:nvPicPr>
        <p:blipFill>
          <a:blip r:embed="rId1"/>
          <a:stretch/>
        </p:blipFill>
        <p:spPr>
          <a:xfrm>
            <a:off x="826920" y="1341360"/>
            <a:ext cx="7272360" cy="40896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M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85" name="Picture 4" descr="julia_red"/>
          <p:cNvPicPr/>
          <p:nvPr/>
        </p:nvPicPr>
        <p:blipFill>
          <a:blip r:embed="rId1"/>
          <a:stretch/>
        </p:blipFill>
        <p:spPr>
          <a:xfrm>
            <a:off x="1547640" y="1268280"/>
            <a:ext cx="5759640" cy="51087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M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7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88" name="Picture 4" descr="Mandel-Julia"/>
          <p:cNvPicPr/>
          <p:nvPr/>
        </p:nvPicPr>
        <p:blipFill>
          <a:blip r:embed="rId1"/>
          <a:stretch/>
        </p:blipFill>
        <p:spPr>
          <a:xfrm>
            <a:off x="1908000" y="1700280"/>
            <a:ext cx="4969080" cy="3730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M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91" name="Picture 4" descr="600px-Julia"/>
          <p:cNvPicPr/>
          <p:nvPr/>
        </p:nvPicPr>
        <p:blipFill>
          <a:blip r:embed="rId1"/>
          <a:stretch/>
        </p:blipFill>
        <p:spPr>
          <a:xfrm>
            <a:off x="2050920" y="1413000"/>
            <a:ext cx="5067360" cy="5067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2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Fraktal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900000" y="21337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Welche Unterschiede findet man zwischen den zwei letzten Bilder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971640" y="3788640"/>
            <a:ext cx="71294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zersplitterte Bereiche, oder ein zusammenhändender Berei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8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ndelbrot M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1042920" y="1773360"/>
            <a:ext cx="708660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andelbrot Menge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nge der komplexen Zahlen, für welche mit dem Anfangswert z = (o + i0) die iterierte quadratische Abbild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Qc(z) = z2 +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schränkt bleib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c := {c€C;   lim |Qnc(0)| &lt; 0-0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                                                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0-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Text Box 6"/>
          <p:cNvSpPr/>
          <p:nvPr/>
        </p:nvSpPr>
        <p:spPr>
          <a:xfrm>
            <a:off x="1547640" y="4579920"/>
            <a:ext cx="5761080" cy="699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andelbrot Menge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ulia Menge mit Anfangswert z=(0 + 0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Text Box 7"/>
          <p:cNvSpPr/>
          <p:nvPr/>
        </p:nvSpPr>
        <p:spPr>
          <a:xfrm>
            <a:off x="1547640" y="552384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ulia Vermutung: diese Mengen bilden immer einen zusammenhängenden Berei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Mandelbrot: Apfelmännche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07" name="Picture 4" descr="Mandelbrot-Menge_farbig"/>
          <p:cNvPicPr/>
          <p:nvPr/>
        </p:nvPicPr>
        <p:blipFill>
          <a:blip r:embed="rId1"/>
          <a:stretch/>
        </p:blipFill>
        <p:spPr>
          <a:xfrm>
            <a:off x="1258920" y="1557360"/>
            <a:ext cx="6656400" cy="49928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Apfelmännchen Abschnit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0" name="Picture 4" descr="db_Chaos-Mandelbrot1"/>
          <p:cNvPicPr/>
          <p:nvPr/>
        </p:nvPicPr>
        <p:blipFill>
          <a:blip r:embed="rId1"/>
          <a:stretch/>
        </p:blipFill>
        <p:spPr>
          <a:xfrm>
            <a:off x="1258920" y="1557360"/>
            <a:ext cx="6337440" cy="49482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Apfelmännchenabschnit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3" name="Picture 4" descr="abfluss"/>
          <p:cNvPicPr/>
          <p:nvPr/>
        </p:nvPicPr>
        <p:blipFill>
          <a:blip r:embed="rId1"/>
          <a:stretch/>
        </p:blipFill>
        <p:spPr>
          <a:xfrm>
            <a:off x="1547640" y="1700280"/>
            <a:ext cx="5545440" cy="41590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4" name="Object 2"/>
          <p:cNvGraphicFramePr/>
          <p:nvPr/>
        </p:nvGraphicFramePr>
        <p:xfrm>
          <a:off x="684360" y="1628640"/>
          <a:ext cx="7848360" cy="47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628640"/>
                    <a:ext cx="784836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Warum ist dieMandelbrot Menge interessant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900000" y="1700280"/>
            <a:ext cx="7086600" cy="42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ulia Menge können wir auch als ein Phasendiagramm betracht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s sind nur die Julia Mengen interessant, wo die Elemente in einem zusammenhängenden Bereich lie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olange wir einem System Zustände nur innerhalb dieses Bereiches erlauben, das System kann arbeitsfähig (beschränkt) blei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e Stabilität eines – wohl mit nicht linearer Gleichung beschiebenen  – Systems ist stark von empfindlichen und genauen Anfangsbedingungen anhängi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merkung: hier ist keine Aussage über die Anzahl der Sammelpunkte – Lorenz Attraktor: 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1403280" y="5949360"/>
            <a:ext cx="619308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m Rand der Mandelbrot Menge findet man Frakta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Über lernfähige System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Was ist Ihre Vorstellung über das Lernen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Fraktálok - kép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22" name="Picture 5" descr="800px-Mandelbrotmenge_Orbit_Alle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3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6. Anschauungsprobl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971640" y="2133720"/>
            <a:ext cx="70866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in Teil der Entschedungen ist – im Prozess des Lernens – nicht deterministis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ispiel: Flughafen, zwei Ausgän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900000" y="4650840"/>
            <a:ext cx="7417080" cy="103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Im Leben ist ein Teil der wirklichen Entscheidu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icht vorbestimmt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iese Tatsache trägt dazu bei, dass wir lernen (anpassen) könn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9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6. Anschauungsprob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1042920" y="1773360"/>
            <a:ext cx="708660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in Teil der Entscheidungen ist im Prozess des Lernens nicht deterministis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enn die Entscheidung sich nicht in einem inneren oder äußeren Modell manifestie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r „Schöpfer” wird nie erfahren, wann und warum das System sich so entschieden h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r vollständige Prozess des Lernens kann nicht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terministisch wiederholt werd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1332000" y="4941000"/>
            <a:ext cx="64800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as ist der Punkt, wo der technische Fachman kapituliert!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5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as ausgeblieben i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as ist die Erscheinung oder der Prozess, was sich zu dem Lernprozess gehört, und noch nicht angeprochen wurde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1187280" y="3283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Worauf trinkt man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as ausgeblieben i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3" name="AutoShape 7"/>
          <p:cNvSpPr/>
          <p:nvPr/>
        </p:nvSpPr>
        <p:spPr>
          <a:xfrm>
            <a:off x="1403280" y="2133720"/>
            <a:ext cx="720720" cy="647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4" name="AutoShape 8"/>
          <p:cNvSpPr/>
          <p:nvPr/>
        </p:nvSpPr>
        <p:spPr>
          <a:xfrm>
            <a:off x="2700360" y="2205000"/>
            <a:ext cx="158436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Wahrnehm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AutoShape 9"/>
          <p:cNvSpPr/>
          <p:nvPr/>
        </p:nvSpPr>
        <p:spPr>
          <a:xfrm>
            <a:off x="270036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Kneip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AutoShape 10"/>
          <p:cNvSpPr/>
          <p:nvPr/>
        </p:nvSpPr>
        <p:spPr>
          <a:xfrm>
            <a:off x="4932360" y="3141720"/>
            <a:ext cx="151128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Diskuss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7" name="Rectangle 11"/>
          <p:cNvSpPr/>
          <p:nvPr/>
        </p:nvSpPr>
        <p:spPr>
          <a:xfrm>
            <a:off x="6804000" y="2276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Leh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8" name="Rectangle 12"/>
          <p:cNvSpPr/>
          <p:nvPr/>
        </p:nvSpPr>
        <p:spPr>
          <a:xfrm>
            <a:off x="4932360" y="4076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keine Leh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AutoShape 13"/>
          <p:cNvSpPr/>
          <p:nvPr/>
        </p:nvSpPr>
        <p:spPr>
          <a:xfrm>
            <a:off x="5003640" y="494172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Vergess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Line 14"/>
          <p:cNvSpPr/>
          <p:nvPr/>
        </p:nvSpPr>
        <p:spPr>
          <a:xfrm>
            <a:off x="2340000" y="2421000"/>
            <a:ext cx="28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Line 15"/>
          <p:cNvSpPr/>
          <p:nvPr/>
        </p:nvSpPr>
        <p:spPr>
          <a:xfrm>
            <a:off x="3348000" y="270828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Line 16"/>
          <p:cNvSpPr/>
          <p:nvPr/>
        </p:nvSpPr>
        <p:spPr>
          <a:xfrm>
            <a:off x="4211640" y="335772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Line 17"/>
          <p:cNvSpPr/>
          <p:nvPr/>
        </p:nvSpPr>
        <p:spPr>
          <a:xfrm flipV="1">
            <a:off x="6443640" y="2707920"/>
            <a:ext cx="72072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Line 18"/>
          <p:cNvSpPr/>
          <p:nvPr/>
        </p:nvSpPr>
        <p:spPr>
          <a:xfrm>
            <a:off x="5651640" y="3645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Line 19"/>
          <p:cNvSpPr/>
          <p:nvPr/>
        </p:nvSpPr>
        <p:spPr>
          <a:xfrm>
            <a:off x="5651640" y="4508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60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80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as ausgeblieben i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1042920" y="1773360"/>
            <a:ext cx="70866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In einer neuen Umgebung ist ein Teil der Reaktionen einfach überflüssi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Was nicht gebraucht wird: das muss vergessen sei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1187280" y="3283920"/>
            <a:ext cx="648036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as Vergessen kann – und ist auch oft – mit der Wille des Vergessens verbunden sei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2" name="Text Box 7"/>
          <p:cNvSpPr/>
          <p:nvPr/>
        </p:nvSpPr>
        <p:spPr>
          <a:xfrm>
            <a:off x="826920" y="4365000"/>
            <a:ext cx="7345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s muss die Unterscheidung  „wichtig/unwichtig” gertoffen sei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3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as ausgeblieben i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971640" y="206064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Unwichtig – Vergessen - Wahrnehmu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Text Box 6"/>
          <p:cNvSpPr/>
          <p:nvPr/>
        </p:nvSpPr>
        <p:spPr>
          <a:xfrm>
            <a:off x="971640" y="4488120"/>
            <a:ext cx="6480000" cy="974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ie Wahrnehmung wird von unserem Bewusstsein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uf Grund der Einordnung wichtig/unwichtig –wesentlich beeinflus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9" name="Text Box 8"/>
          <p:cNvSpPr/>
          <p:nvPr/>
        </p:nvSpPr>
        <p:spPr>
          <a:xfrm>
            <a:off x="1042920" y="2997360"/>
            <a:ext cx="70866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as, was wir für wichtig halten, beeinflusst auch unsere Wahrnehmung. Dieser Einfluss ist sehr stark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ispiel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0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8. Technische Syst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4" name="Text Box 8"/>
          <p:cNvSpPr/>
          <p:nvPr/>
        </p:nvSpPr>
        <p:spPr>
          <a:xfrm>
            <a:off x="971640" y="1844640"/>
            <a:ext cx="708660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eproduktion lernfähiger technischen Systeme (kopieren)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Reproduktion lernfähiger Systeme ist einfa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Reproduktion eines „schon gelernten Systems” ist nur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ann eifach,wenn das System auch während der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rbeit von der Umgebung physikalisch gut abgrenzbar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und abtrennbar i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5" name="Text Box 9"/>
          <p:cNvSpPr/>
          <p:nvPr/>
        </p:nvSpPr>
        <p:spPr>
          <a:xfrm>
            <a:off x="1116000" y="400536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ispiel: gelehrte Nervensystem-Simula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(männlich-weiblich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8. Technische Syst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elbstreproduktion technischer Systeme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wird nicht behandel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1116000" y="4005360"/>
            <a:ext cx="70866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omputerviren: adaptierungsfähige „Werke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Frage: wie prüfen sie, ob der Wirt-Kompuer (Wirtzell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von diesem Virus befallen ist, oder nicht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Object 2"/>
          <p:cNvGraphicFramePr/>
          <p:nvPr/>
        </p:nvGraphicFramePr>
        <p:xfrm>
          <a:off x="395280" y="1773360"/>
          <a:ext cx="845820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84582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Rectangle 3"/>
          <p:cNvSpPr/>
          <p:nvPr/>
        </p:nvSpPr>
        <p:spPr>
          <a:xfrm>
            <a:off x="468360" y="2924280"/>
            <a:ext cx="8064360" cy="3384360"/>
          </a:xfrm>
          <a:prstGeom prst="rect">
            <a:avLst/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5" name="AutoShape 4"/>
          <p:cNvSpPr/>
          <p:nvPr/>
        </p:nvSpPr>
        <p:spPr>
          <a:xfrm>
            <a:off x="539640" y="3933720"/>
            <a:ext cx="6191280" cy="180036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1048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9</a:t>
            </a:r>
            <a:r>
              <a:rPr b="0" lang="en-IE" sz="4400" spc="-1" strike="noStrike">
                <a:solidFill>
                  <a:srgbClr val="e3e3ff"/>
                </a:solidFill>
                <a:latin typeface="Arial"/>
                <a:ea typeface="Arial"/>
              </a:rPr>
              <a:t>. </a:t>
            </a: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Zusammenfassu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539640" y="1773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rnfähige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3708360" y="2276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Umgeb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0" name="AutoShape 9"/>
          <p:cNvSpPr/>
          <p:nvPr/>
        </p:nvSpPr>
        <p:spPr>
          <a:xfrm>
            <a:off x="2556000" y="3141720"/>
            <a:ext cx="180000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Wahrnehm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AutoShape 10"/>
          <p:cNvSpPr/>
          <p:nvPr/>
        </p:nvSpPr>
        <p:spPr>
          <a:xfrm>
            <a:off x="2916360" y="4437000"/>
            <a:ext cx="187164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Enscheidung d/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684360" y="4437000"/>
            <a:ext cx="143964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wichti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995640" y="5084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Irrtu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4" name="Line 13"/>
          <p:cNvSpPr/>
          <p:nvPr/>
        </p:nvSpPr>
        <p:spPr>
          <a:xfrm>
            <a:off x="3492360" y="2708280"/>
            <a:ext cx="0" cy="50472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5" name="Rectangle 14"/>
          <p:cNvSpPr/>
          <p:nvPr/>
        </p:nvSpPr>
        <p:spPr>
          <a:xfrm>
            <a:off x="1908000" y="5084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Änder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Line 15"/>
          <p:cNvSpPr/>
          <p:nvPr/>
        </p:nvSpPr>
        <p:spPr>
          <a:xfrm flipV="1">
            <a:off x="1403280" y="3573000"/>
            <a:ext cx="1297080" cy="64764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Line 16"/>
          <p:cNvSpPr/>
          <p:nvPr/>
        </p:nvSpPr>
        <p:spPr>
          <a:xfrm>
            <a:off x="3492360" y="3645000"/>
            <a:ext cx="358920" cy="57600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Line 17"/>
          <p:cNvSpPr/>
          <p:nvPr/>
        </p:nvSpPr>
        <p:spPr>
          <a:xfrm flipH="1">
            <a:off x="2555640" y="4797360"/>
            <a:ext cx="360360" cy="2872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Line 18"/>
          <p:cNvSpPr/>
          <p:nvPr/>
        </p:nvSpPr>
        <p:spPr>
          <a:xfrm>
            <a:off x="4572000" y="4869000"/>
            <a:ext cx="287280" cy="21564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Line 19"/>
          <p:cNvSpPr/>
          <p:nvPr/>
        </p:nvSpPr>
        <p:spPr>
          <a:xfrm flipH="1">
            <a:off x="2123640" y="4653000"/>
            <a:ext cx="79236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AutoShape 20"/>
          <p:cNvSpPr/>
          <p:nvPr/>
        </p:nvSpPr>
        <p:spPr>
          <a:xfrm>
            <a:off x="6804000" y="4221000"/>
            <a:ext cx="1655640" cy="792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Vergess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Line 21"/>
          <p:cNvSpPr/>
          <p:nvPr/>
        </p:nvSpPr>
        <p:spPr>
          <a:xfrm>
            <a:off x="6372360" y="4508640"/>
            <a:ext cx="433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Line 22"/>
          <p:cNvSpPr/>
          <p:nvPr/>
        </p:nvSpPr>
        <p:spPr>
          <a:xfrm flipH="1">
            <a:off x="6372000" y="4724280"/>
            <a:ext cx="43164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Text Box 23"/>
          <p:cNvSpPr/>
          <p:nvPr/>
        </p:nvSpPr>
        <p:spPr>
          <a:xfrm>
            <a:off x="5003640" y="537372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Gedächtn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Text Box 24"/>
          <p:cNvSpPr/>
          <p:nvPr/>
        </p:nvSpPr>
        <p:spPr>
          <a:xfrm>
            <a:off x="2627280" y="587700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negative und  positive Rückkopplungen, instabile Tei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AutoShape 25"/>
          <p:cNvSpPr/>
          <p:nvPr/>
        </p:nvSpPr>
        <p:spPr>
          <a:xfrm>
            <a:off x="4500720" y="3141720"/>
            <a:ext cx="136656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Eingriff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Line 26"/>
          <p:cNvSpPr/>
          <p:nvPr/>
        </p:nvSpPr>
        <p:spPr>
          <a:xfrm flipV="1">
            <a:off x="4284720" y="3645000"/>
            <a:ext cx="647640" cy="57600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Line 27"/>
          <p:cNvSpPr/>
          <p:nvPr/>
        </p:nvSpPr>
        <p:spPr>
          <a:xfrm flipV="1">
            <a:off x="5076720" y="2708280"/>
            <a:ext cx="0" cy="5032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Anschauu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900000" y="2133720"/>
            <a:ext cx="6934320" cy="28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Anschauu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Anschauung: die Art und Weise, wie man etwas betrachtet oder interpretiert oder über etwas denk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Denkweise: bestimmter Gedankenablauf, basierend auf Erfahrung, Gemützustand, äußere Einflüsse,..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Denken: innere Beschäftigung, wenn wir versuchen eine Erkenntnis zu formulieren, basiert auf Vorstellungen, Erinnerungen und Begriff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258920" y="5515920"/>
            <a:ext cx="684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er Grund der Anschauung ist die Glaube oder das Wiss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rchitekturfragen der IT System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Jetzt wird es technisch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Beispiel (IT Architektur)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Haben Sie noch nicht genug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Wo wir noch lernen können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(was machen wir falsch?)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Das gemeinsamme Wissen ist auch ein gemeinsammer Schatz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Was ist Ihre Vorstellung über das Lernen?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2268360" y="4365720"/>
            <a:ext cx="48960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Danke Ihre Geduld und Aufmeksamkeit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55280" y="2997360"/>
            <a:ext cx="727884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</a:rPr>
              <a:t>E N D 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468360" y="184464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Lernfähi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900000" y="2133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Wann ist ein System lernfähig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3203640" y="3645000"/>
            <a:ext cx="2808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Lern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2124000" y="4653000"/>
            <a:ext cx="489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4500720" y="4292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>
            <a:off x="2124000" y="465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Line 12"/>
          <p:cNvSpPr/>
          <p:nvPr/>
        </p:nvSpPr>
        <p:spPr>
          <a:xfrm>
            <a:off x="7020000" y="465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AutoShape 13"/>
          <p:cNvSpPr/>
          <p:nvPr/>
        </p:nvSpPr>
        <p:spPr>
          <a:xfrm>
            <a:off x="1042920" y="5013360"/>
            <a:ext cx="230508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wird geleh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AutoShape 14"/>
          <p:cNvSpPr/>
          <p:nvPr/>
        </p:nvSpPr>
        <p:spPr>
          <a:xfrm>
            <a:off x="5580000" y="5084640"/>
            <a:ext cx="2519280" cy="57636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igene Entscheid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611280" y="5804640"/>
            <a:ext cx="324000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ndere sagen was und wi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5003640" y="5668560"/>
            <a:ext cx="3240360" cy="642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erbesserung eigener Fähigkeit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Text Box 17"/>
          <p:cNvSpPr/>
          <p:nvPr/>
        </p:nvSpPr>
        <p:spPr>
          <a:xfrm>
            <a:off x="1835280" y="2787120"/>
            <a:ext cx="518472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Wenn es sich zur ändernden Umgebung gut anpassen kan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AutoShape 18"/>
          <p:cNvSpPr/>
          <p:nvPr/>
        </p:nvSpPr>
        <p:spPr>
          <a:xfrm>
            <a:off x="7236000" y="4221000"/>
            <a:ext cx="720720" cy="648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I. Über lerhfähige Syst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971640" y="1844640"/>
            <a:ext cx="708660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1 Steuerung und Regel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2 Rückkopplu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3 Analys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4 Eigenschaften lernfähiger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5 Mathemati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6 Anschauungsprobl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7 Was ausgeblieben i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8 Technische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9 Zusammenfass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Steuerung und Regelu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971640" y="1844640"/>
            <a:ext cx="720072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Kybernetik: interdisziplinäre Forsch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1944, Mathematik, Biologie, Technik, Gesellschaf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Norbert Wiener, Claude Shann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Wichtigste Ergebnisse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Theorie der Steuerung und Regel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Rückkopplu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Informationstheorie (Signaltheori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Phasendiagramm (Phasenraum) Techni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7T10:09:43Z</dcterms:created>
  <dc:creator>www.xplanet.hu</dc:creator>
  <dc:description/>
  <dc:language>en-US</dc:language>
  <cp:lastModifiedBy>Gyorgy Varga</cp:lastModifiedBy>
  <dcterms:modified xsi:type="dcterms:W3CDTF">2013-01-04T19:49:07Z</dcterms:modified>
  <cp:revision>1621</cp:revision>
  <dc:subject/>
  <dc:title>J2EE-001-VargaGy</dc:title>
</cp:coreProperties>
</file>